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26DB-37DE-4CE2-B923-73EE686E0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5F7C-FD25-4BB9-8909-AFA6BB776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80604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3437-C19A-4837-B2AB-0164CD6A7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29440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806040"/>
            <a:ext cx="29440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806040"/>
            <a:ext cx="29440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9F8A-BEEB-407E-A0E1-72BD93578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EE24-E72B-4F70-A2BF-6A4A527556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3CAC-49FD-4AFF-A8C7-58E281DA0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44622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806040"/>
            <a:ext cx="44622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23CD-97A2-4926-B2B1-A4A4F589E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94C4-CF11-401D-98FA-4D9E1314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02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0D74-B1AB-4791-9F5A-FB865606C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806040"/>
            <a:ext cx="44622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F180-8817-4AE8-82AE-DB010E52F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44622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80604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47A5-75AF-41D1-888C-810B3C3F1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06040"/>
            <a:ext cx="44622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56DD-0190-4D32-8E7A-5EC6C28AA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1306" t="6066" r="13759" b="9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763560"/>
            <a:ext cx="9144000" cy="5883480"/>
          </a:xfrm>
          <a:prstGeom prst="rect">
            <a:avLst/>
          </a:prstGeom>
          <a:solidFill>
            <a:srgbClr val="6470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363c2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73280" y="6667200"/>
            <a:ext cx="567504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8280" bIns="982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Ormos Mihály, Budapesti Műszaki és Gazdaságtudományi Egyetem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833400"/>
          </a:xfrm>
          <a:prstGeom prst="rect">
            <a:avLst/>
          </a:prstGeom>
          <a:solidFill>
            <a:srgbClr val="363c2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 rot="801000">
            <a:off x="8043480" y="39240"/>
            <a:ext cx="1130400" cy="797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680160"/>
            <a:ext cx="2482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280" bIns="71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Számvit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31880" y="6402240"/>
            <a:ext cx="68400" cy="455760"/>
          </a:xfrm>
          <a:prstGeom prst="rect">
            <a:avLst/>
          </a:prstGeom>
          <a:solidFill>
            <a:srgbClr val="363c2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967080" y="66819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A17B-5DB2-4205-BB73-56B9703A2876}" type="slidenum">
              <a:rPr b="1" i="1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047080" y="0"/>
            <a:ext cx="68400" cy="984240"/>
          </a:xfrm>
          <a:prstGeom prst="rect">
            <a:avLst/>
          </a:prstGeom>
          <a:solidFill>
            <a:srgbClr val="363c2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3844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ZÁMVIT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895480"/>
            <a:ext cx="4572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3680" indent="-193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lenőrzés, elem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gazdálkodás eredményességének méréséhez, értékeléséhez a számviteli rendszer biztosítja az alapadatok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895480"/>
            <a:ext cx="4572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Döntés kialak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orábbi gazdasági folyamatok szisztematikus elemzése megfelelő adatok nélkül elképzelhetetlen. Míg jó döntések megfelelő elemzések nélkül nem hozható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95280"/>
            <a:ext cx="9144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Jogszabályok nem teszik kötelezővé ezen információs bázis elkészítését és módját s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állalkozás vezetőinek információ igény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D0A4-E796-4FB7-BC6B-BCACE6BE61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állalkozások Számviteli Rendsze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számvitel a gazdálkodó szervezetek működését, tevékenységét bemutató információs rendsze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7657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pénzügyi számvitel által szolgáltatott adatokat a Számviteli törvénynek megfelelően beszámolókká rendezzü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20600" y="1536840"/>
            <a:ext cx="7240680" cy="4268520"/>
            <a:chOff x="1020600" y="1536840"/>
            <a:chExt cx="7240680" cy="4268520"/>
          </a:xfrm>
        </p:grpSpPr>
        <p:cxnSp>
          <p:nvCxnSpPr>
            <p:cNvPr id="86" name="_s21546"/>
            <p:cNvCxnSpPr>
              <a:stCxn id="87" idx="0"/>
              <a:endCxn id="88" idx="2"/>
            </p:cNvCxnSpPr>
            <p:nvPr/>
          </p:nvCxnSpPr>
          <p:spPr>
            <a:xfrm flipV="1" rot="16200000">
              <a:off x="6977160" y="3173400"/>
              <a:ext cx="343800" cy="85320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21547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6132240" y="3199680"/>
              <a:ext cx="362520" cy="819720"/>
            </a:xfrm>
            <a:prstGeom prst="bentConnector3">
              <a:avLst>
                <a:gd name="adj1" fmla="val 372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21548"/>
            <p:cNvCxnSpPr>
              <a:stCxn id="88" idx="0"/>
              <a:endCxn id="92" idx="2"/>
            </p:cNvCxnSpPr>
            <p:nvPr/>
          </p:nvCxnSpPr>
          <p:spPr>
            <a:xfrm flipV="1">
              <a:off x="6722640" y="2750400"/>
              <a:ext cx="3960" cy="29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21549"/>
            <p:cNvCxnSpPr>
              <a:stCxn id="94" idx="1"/>
              <a:endCxn id="95" idx="2"/>
            </p:cNvCxnSpPr>
            <p:nvPr/>
          </p:nvCxnSpPr>
          <p:spPr>
            <a:xfrm rot="10800000">
              <a:off x="3572640" y="3428280"/>
              <a:ext cx="164160" cy="163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21550"/>
            <p:cNvCxnSpPr>
              <a:stCxn id="97" idx="1"/>
              <a:endCxn id="95" idx="2"/>
            </p:cNvCxnSpPr>
            <p:nvPr/>
          </p:nvCxnSpPr>
          <p:spPr>
            <a:xfrm rot="10800000">
              <a:off x="3572640" y="3428280"/>
              <a:ext cx="164160" cy="110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21551"/>
            <p:cNvCxnSpPr>
              <a:stCxn id="99" idx="1"/>
              <a:endCxn id="95" idx="2"/>
            </p:cNvCxnSpPr>
            <p:nvPr/>
          </p:nvCxnSpPr>
          <p:spPr>
            <a:xfrm rot="10800000">
              <a:off x="3572640" y="3428280"/>
              <a:ext cx="164160" cy="5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21552"/>
            <p:cNvCxnSpPr>
              <a:stCxn id="101" idx="1"/>
              <a:endCxn id="102" idx="2"/>
            </p:cNvCxnSpPr>
            <p:nvPr/>
          </p:nvCxnSpPr>
          <p:spPr>
            <a:xfrm rot="10800000">
              <a:off x="1764720" y="3428280"/>
              <a:ext cx="181440" cy="216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21553"/>
            <p:cNvCxnSpPr>
              <a:stCxn id="104" idx="1"/>
              <a:endCxn id="102" idx="2"/>
            </p:cNvCxnSpPr>
            <p:nvPr/>
          </p:nvCxnSpPr>
          <p:spPr>
            <a:xfrm rot="10800000">
              <a:off x="1764720" y="3428280"/>
              <a:ext cx="181440" cy="163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21554"/>
            <p:cNvCxnSpPr>
              <a:stCxn id="106" idx="1"/>
              <a:endCxn id="102" idx="2"/>
            </p:cNvCxnSpPr>
            <p:nvPr/>
          </p:nvCxnSpPr>
          <p:spPr>
            <a:xfrm rot="10800000">
              <a:off x="1764720" y="3428280"/>
              <a:ext cx="181440" cy="110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21555"/>
            <p:cNvCxnSpPr>
              <a:stCxn id="108" idx="1"/>
              <a:endCxn id="102" idx="2"/>
            </p:cNvCxnSpPr>
            <p:nvPr/>
          </p:nvCxnSpPr>
          <p:spPr>
            <a:xfrm rot="10800000">
              <a:off x="1764720" y="3428280"/>
              <a:ext cx="181440" cy="5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21556"/>
            <p:cNvCxnSpPr>
              <a:stCxn id="95" idx="0"/>
              <a:endCxn id="110" idx="2"/>
            </p:cNvCxnSpPr>
            <p:nvPr/>
          </p:nvCxnSpPr>
          <p:spPr>
            <a:xfrm flipV="1" rot="16200000">
              <a:off x="3177360" y="2645640"/>
              <a:ext cx="291240" cy="500760"/>
            </a:xfrm>
            <a:prstGeom prst="bentConnector3">
              <a:avLst>
                <a:gd name="adj1" fmla="val 464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21557"/>
            <p:cNvCxnSpPr>
              <a:stCxn id="102" idx="0"/>
              <a:endCxn id="110" idx="2"/>
            </p:cNvCxnSpPr>
            <p:nvPr/>
          </p:nvCxnSpPr>
          <p:spPr>
            <a:xfrm flipH="1" flipV="1" rot="5400000">
              <a:off x="2273760" y="2241720"/>
              <a:ext cx="291240" cy="1308600"/>
            </a:xfrm>
            <a:prstGeom prst="bentConnector3">
              <a:avLst>
                <a:gd name="adj1" fmla="val 464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21558"/>
            <p:cNvCxnSpPr>
              <a:stCxn id="92" idx="0"/>
              <a:endCxn id="113" idx="2"/>
            </p:cNvCxnSpPr>
            <p:nvPr/>
          </p:nvCxnSpPr>
          <p:spPr>
            <a:xfrm flipV="1" rot="16200000">
              <a:off x="5626440" y="1225800"/>
              <a:ext cx="297360" cy="1896120"/>
            </a:xfrm>
            <a:prstGeom prst="bentConnector3">
              <a:avLst>
                <a:gd name="adj1" fmla="val 4545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21559"/>
            <p:cNvCxnSpPr>
              <a:stCxn id="110" idx="0"/>
              <a:endCxn id="113" idx="2"/>
            </p:cNvCxnSpPr>
            <p:nvPr/>
          </p:nvCxnSpPr>
          <p:spPr>
            <a:xfrm flipH="1" flipV="1" rot="5400000">
              <a:off x="3801600" y="1296360"/>
              <a:ext cx="297360" cy="1755000"/>
            </a:xfrm>
            <a:prstGeom prst="bentConnector3">
              <a:avLst>
                <a:gd name="adj1" fmla="val 4545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21560"/>
            <p:cNvSpPr/>
            <p:nvPr/>
          </p:nvSpPr>
          <p:spPr>
            <a:xfrm>
              <a:off x="3792600" y="1536840"/>
              <a:ext cx="2066760" cy="488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Számvitel</a:t>
              </a:r>
              <a:br>
                <a:rPr sz="1600"/>
              </a:b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 információs rendsz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1561"/>
            <p:cNvSpPr/>
            <p:nvPr/>
          </p:nvSpPr>
          <p:spPr>
            <a:xfrm>
              <a:off x="2300400" y="2322360"/>
              <a:ext cx="1546200" cy="428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énzügyi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Számvit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21562"/>
            <p:cNvSpPr/>
            <p:nvPr/>
          </p:nvSpPr>
          <p:spPr>
            <a:xfrm>
              <a:off x="5950080" y="2322360"/>
              <a:ext cx="1546200" cy="428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Vezetői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Számvit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21563"/>
            <p:cNvSpPr/>
            <p:nvPr/>
          </p:nvSpPr>
          <p:spPr>
            <a:xfrm>
              <a:off x="1020600" y="3041640"/>
              <a:ext cx="1492560" cy="38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iaci szereplők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 informál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21564"/>
            <p:cNvSpPr/>
            <p:nvPr/>
          </p:nvSpPr>
          <p:spPr>
            <a:xfrm>
              <a:off x="2828880" y="3041640"/>
              <a:ext cx="1488960" cy="38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Hatóságok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tájékoztat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21565"/>
            <p:cNvSpPr/>
            <p:nvPr/>
          </p:nvSpPr>
          <p:spPr>
            <a:xfrm>
              <a:off x="1946160" y="3794040"/>
              <a:ext cx="1371600" cy="426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Tulajdonoso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21566"/>
            <p:cNvSpPr/>
            <p:nvPr/>
          </p:nvSpPr>
          <p:spPr>
            <a:xfrm>
              <a:off x="1946160" y="4322880"/>
              <a:ext cx="1371600" cy="425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Hitelező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21567"/>
            <p:cNvSpPr/>
            <p:nvPr/>
          </p:nvSpPr>
          <p:spPr>
            <a:xfrm>
              <a:off x="1946160" y="4849920"/>
              <a:ext cx="1371600" cy="42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otenciál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Befektető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21568"/>
            <p:cNvSpPr/>
            <p:nvPr/>
          </p:nvSpPr>
          <p:spPr>
            <a:xfrm>
              <a:off x="1946160" y="5378400"/>
              <a:ext cx="1371600" cy="426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Üzlet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artnere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21569"/>
            <p:cNvSpPr/>
            <p:nvPr/>
          </p:nvSpPr>
          <p:spPr>
            <a:xfrm>
              <a:off x="3736800" y="3794040"/>
              <a:ext cx="1374840" cy="426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Központ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Ktg-veté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21570"/>
            <p:cNvSpPr/>
            <p:nvPr/>
          </p:nvSpPr>
          <p:spPr>
            <a:xfrm>
              <a:off x="3736800" y="4322880"/>
              <a:ext cx="1374840" cy="425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Nyudíj biz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21571"/>
            <p:cNvSpPr/>
            <p:nvPr/>
          </p:nvSpPr>
          <p:spPr>
            <a:xfrm>
              <a:off x="3736800" y="4849920"/>
              <a:ext cx="1374840" cy="42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Hely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Önkorm-o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21572"/>
            <p:cNvSpPr/>
            <p:nvPr/>
          </p:nvSpPr>
          <p:spPr>
            <a:xfrm>
              <a:off x="5978520" y="3041640"/>
              <a:ext cx="1488960" cy="38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Vállalkozá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Vezető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21573"/>
            <p:cNvSpPr/>
            <p:nvPr/>
          </p:nvSpPr>
          <p:spPr>
            <a:xfrm>
              <a:off x="5216400" y="3790800"/>
              <a:ext cx="1374840" cy="427320"/>
            </a:xfrm>
            <a:prstGeom prst="roundRect">
              <a:avLst>
                <a:gd name="adj" fmla="val 1365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Ellenőrzés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Elemzé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21574"/>
            <p:cNvSpPr/>
            <p:nvPr/>
          </p:nvSpPr>
          <p:spPr>
            <a:xfrm>
              <a:off x="6889680" y="3772080"/>
              <a:ext cx="1371600" cy="42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Döntése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kialakít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FF0C-922F-4E6E-BA45-3A0C78BD5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ámviteli információs rendszer jellemző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lnSpc>
                <a:spcPct val="13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azdálkodó szervezetekben lejátszódó gazdasági folyamatokat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megfigyel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megmér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feljegyzi (elemzi,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és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ellenőrzi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3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últbeli gazdasági folyamatokat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figyel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méri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jegyzi fe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8CEC-C0D2-408E-A652-FFD52D650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ámviteli információs rendszer jellemző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számvitel a vagyonváltozásokat (mozgásokat) tudatos módon figyeli meg és sajátos eszközrendszerrel dolgoz fel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beszámoló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a könyvvizsgál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könyvvezetés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letétbehelyezé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leltár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önköltség számítá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emzések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stb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számvitel feladata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ülső, belső tájékoztatá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lenőrzés, elemzés (adatbázis létrehozása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agyonvédele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FA16-E55A-4EBA-AF2C-044662545F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állalkozói tevékenység tartal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agyon: magán és jogi személyek által birtokolt javak (dolgok) és a velük kapcsolatos jogok (követelések, kötelezettségek) összesség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vagyont megtestesítő javak lehetnek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285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nyagi jav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285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mmateriális jav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6573-7EC8-410F-A1C3-D00898AE20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vállalkozói tevékenység erőforrásigénye és célj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3269880"/>
            <a:ext cx="91440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élja a vagyongyarapítá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2120" y="1870200"/>
            <a:ext cx="8833320" cy="825480"/>
            <a:chOff x="222120" y="1870200"/>
            <a:chExt cx="8833320" cy="825480"/>
          </a:xfrm>
        </p:grpSpPr>
        <p:sp>
          <p:nvSpPr>
            <p:cNvPr id="128" name=""/>
            <p:cNvSpPr/>
            <p:nvPr/>
          </p:nvSpPr>
          <p:spPr>
            <a:xfrm>
              <a:off x="222120" y="19540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08960" y="19540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7120" y="1870200"/>
              <a:ext cx="239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unkaer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Termelési eszköz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51240" y="1919160"/>
              <a:ext cx="1292040" cy="398880"/>
              <a:chOff x="651240" y="1919160"/>
              <a:chExt cx="1292040" cy="398880"/>
            </a:xfrm>
          </p:grpSpPr>
          <p:sp>
            <p:nvSpPr>
              <p:cNvPr id="132" name=""/>
              <p:cNvSpPr/>
              <p:nvPr/>
            </p:nvSpPr>
            <p:spPr>
              <a:xfrm>
                <a:off x="704880" y="2281320"/>
                <a:ext cx="1238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1240" y="191916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ffffff"/>
                    </a:solidFill>
                    <a:latin typeface="Times New Roman"/>
                  </a:rPr>
                  <a:t>beszerzé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361040" y="1957320"/>
              <a:ext cx="1163520" cy="398880"/>
              <a:chOff x="4361040" y="1957320"/>
              <a:chExt cx="1163520" cy="398880"/>
            </a:xfrm>
          </p:grpSpPr>
          <p:sp>
            <p:nvSpPr>
              <p:cNvPr id="135" name=""/>
              <p:cNvSpPr/>
              <p:nvPr/>
            </p:nvSpPr>
            <p:spPr>
              <a:xfrm>
                <a:off x="4457880" y="2281320"/>
                <a:ext cx="1066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61040" y="1957320"/>
                <a:ext cx="109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ffffff"/>
                    </a:solidFill>
                    <a:latin typeface="Times New Roman"/>
                  </a:rPr>
                  <a:t>termelé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492160" y="205272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Késztermé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167240" y="1957320"/>
              <a:ext cx="1348200" cy="398880"/>
              <a:chOff x="7167240" y="1957320"/>
              <a:chExt cx="1348200" cy="398880"/>
            </a:xfrm>
          </p:grpSpPr>
          <p:sp>
            <p:nvSpPr>
              <p:cNvPr id="139" name=""/>
              <p:cNvSpPr/>
              <p:nvPr/>
            </p:nvSpPr>
            <p:spPr>
              <a:xfrm>
                <a:off x="7201080" y="2281320"/>
                <a:ext cx="1314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67240" y="1957320"/>
                <a:ext cx="132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ffffff"/>
                    </a:solidFill>
                    <a:latin typeface="Times New Roman"/>
                  </a:rPr>
                  <a:t>értékesíté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6CF2-258C-4DEC-B0EF-EFC5CC6329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ámvitel területe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énzügyi számvit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ezetői számvit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17720" y="1735200"/>
            <a:ext cx="7221240" cy="4268880"/>
            <a:chOff x="1017720" y="1735200"/>
            <a:chExt cx="7221240" cy="4268880"/>
          </a:xfrm>
        </p:grpSpPr>
        <p:cxnSp>
          <p:nvCxnSpPr>
            <p:cNvPr id="145" name="_s29768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6963480" y="3382200"/>
              <a:ext cx="345240" cy="83412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9769"/>
            <p:cNvCxnSpPr>
              <a:stCxn id="149" idx="0"/>
              <a:endCxn id="147" idx="2"/>
            </p:cNvCxnSpPr>
            <p:nvPr/>
          </p:nvCxnSpPr>
          <p:spPr>
            <a:xfrm flipH="1" flipV="1" rot="5400000">
              <a:off x="6129000" y="3398760"/>
              <a:ext cx="362520" cy="819720"/>
            </a:xfrm>
            <a:prstGeom prst="bentConnector3">
              <a:avLst>
                <a:gd name="adj1" fmla="val 372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0" name="_s29770"/>
            <p:cNvCxnSpPr>
              <a:stCxn id="147" idx="0"/>
              <a:endCxn id="151" idx="2"/>
            </p:cNvCxnSpPr>
            <p:nvPr/>
          </p:nvCxnSpPr>
          <p:spPr>
            <a:xfrm flipV="1">
              <a:off x="6719400" y="2948760"/>
              <a:ext cx="2520" cy="29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2" name="_s29771"/>
            <p:cNvCxnSpPr>
              <a:stCxn id="153" idx="1"/>
              <a:endCxn id="154" idx="2"/>
            </p:cNvCxnSpPr>
            <p:nvPr/>
          </p:nvCxnSpPr>
          <p:spPr>
            <a:xfrm rot="10800000">
              <a:off x="3569400" y="3626640"/>
              <a:ext cx="164520" cy="163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9772"/>
            <p:cNvCxnSpPr>
              <a:stCxn id="156" idx="1"/>
              <a:endCxn id="154" idx="2"/>
            </p:cNvCxnSpPr>
            <p:nvPr/>
          </p:nvCxnSpPr>
          <p:spPr>
            <a:xfrm rot="10800000">
              <a:off x="3569400" y="3626640"/>
              <a:ext cx="164520" cy="110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29773"/>
            <p:cNvCxnSpPr>
              <a:stCxn id="158" idx="1"/>
              <a:endCxn id="154" idx="2"/>
            </p:cNvCxnSpPr>
            <p:nvPr/>
          </p:nvCxnSpPr>
          <p:spPr>
            <a:xfrm rot="10800000">
              <a:off x="3569400" y="3626640"/>
              <a:ext cx="164520" cy="5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29774"/>
            <p:cNvCxnSpPr>
              <a:stCxn id="160" idx="1"/>
              <a:endCxn id="161" idx="2"/>
            </p:cNvCxnSpPr>
            <p:nvPr/>
          </p:nvCxnSpPr>
          <p:spPr>
            <a:xfrm rot="10800000">
              <a:off x="1761480" y="3626640"/>
              <a:ext cx="181800" cy="2164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29775"/>
            <p:cNvCxnSpPr>
              <a:stCxn id="163" idx="1"/>
              <a:endCxn id="161" idx="2"/>
            </p:cNvCxnSpPr>
            <p:nvPr/>
          </p:nvCxnSpPr>
          <p:spPr>
            <a:xfrm rot="10800000">
              <a:off x="1761480" y="3626640"/>
              <a:ext cx="181800" cy="163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29776"/>
            <p:cNvCxnSpPr>
              <a:stCxn id="165" idx="1"/>
              <a:endCxn id="161" idx="2"/>
            </p:cNvCxnSpPr>
            <p:nvPr/>
          </p:nvCxnSpPr>
          <p:spPr>
            <a:xfrm rot="10800000">
              <a:off x="1761480" y="3626640"/>
              <a:ext cx="181800" cy="110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29777"/>
            <p:cNvCxnSpPr>
              <a:stCxn id="167" idx="1"/>
              <a:endCxn id="161" idx="2"/>
            </p:cNvCxnSpPr>
            <p:nvPr/>
          </p:nvCxnSpPr>
          <p:spPr>
            <a:xfrm rot="10800000">
              <a:off x="1761480" y="3626640"/>
              <a:ext cx="181800" cy="5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8" name="_s29778"/>
            <p:cNvCxnSpPr>
              <a:stCxn id="154" idx="0"/>
              <a:endCxn id="169" idx="2"/>
            </p:cNvCxnSpPr>
            <p:nvPr/>
          </p:nvCxnSpPr>
          <p:spPr>
            <a:xfrm flipV="1" rot="16200000">
              <a:off x="3174120" y="2844000"/>
              <a:ext cx="291240" cy="500760"/>
            </a:xfrm>
            <a:prstGeom prst="bentConnector3">
              <a:avLst>
                <a:gd name="adj1" fmla="val 464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29779"/>
            <p:cNvCxnSpPr>
              <a:stCxn id="161" idx="0"/>
              <a:endCxn id="169" idx="2"/>
            </p:cNvCxnSpPr>
            <p:nvPr/>
          </p:nvCxnSpPr>
          <p:spPr>
            <a:xfrm flipH="1" flipV="1" rot="5400000">
              <a:off x="2270520" y="2440080"/>
              <a:ext cx="291240" cy="1308600"/>
            </a:xfrm>
            <a:prstGeom prst="bentConnector3">
              <a:avLst>
                <a:gd name="adj1" fmla="val 464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29780"/>
            <p:cNvCxnSpPr>
              <a:stCxn id="151" idx="0"/>
              <a:endCxn id="172" idx="2"/>
            </p:cNvCxnSpPr>
            <p:nvPr/>
          </p:nvCxnSpPr>
          <p:spPr>
            <a:xfrm flipV="1" rot="16200000">
              <a:off x="5622120" y="1423440"/>
              <a:ext cx="297720" cy="1897560"/>
            </a:xfrm>
            <a:prstGeom prst="bentConnector3">
              <a:avLst>
                <a:gd name="adj1" fmla="val 455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29781"/>
            <p:cNvCxnSpPr>
              <a:stCxn id="169" idx="0"/>
              <a:endCxn id="172" idx="2"/>
            </p:cNvCxnSpPr>
            <p:nvPr/>
          </p:nvCxnSpPr>
          <p:spPr>
            <a:xfrm flipH="1" flipV="1" rot="5400000">
              <a:off x="3797640" y="1495440"/>
              <a:ext cx="297720" cy="1753560"/>
            </a:xfrm>
            <a:prstGeom prst="bentConnector3">
              <a:avLst>
                <a:gd name="adj1" fmla="val 455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2" name="_s29782"/>
            <p:cNvSpPr/>
            <p:nvPr/>
          </p:nvSpPr>
          <p:spPr>
            <a:xfrm>
              <a:off x="3789360" y="1735200"/>
              <a:ext cx="2066760" cy="488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Számvitel</a:t>
              </a:r>
              <a:br>
                <a:rPr sz="1600"/>
              </a:b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 információs rendsz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29783"/>
            <p:cNvSpPr/>
            <p:nvPr/>
          </p:nvSpPr>
          <p:spPr>
            <a:xfrm>
              <a:off x="2297160" y="2521080"/>
              <a:ext cx="1546200" cy="42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énzügyi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Számvit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29784"/>
            <p:cNvSpPr/>
            <p:nvPr/>
          </p:nvSpPr>
          <p:spPr>
            <a:xfrm>
              <a:off x="5945040" y="2521080"/>
              <a:ext cx="1548000" cy="42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Vezetői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Számvit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9785"/>
            <p:cNvSpPr/>
            <p:nvPr/>
          </p:nvSpPr>
          <p:spPr>
            <a:xfrm>
              <a:off x="1017720" y="3240000"/>
              <a:ext cx="1492200" cy="38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iaci szereplők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 informál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9786"/>
            <p:cNvSpPr/>
            <p:nvPr/>
          </p:nvSpPr>
          <p:spPr>
            <a:xfrm>
              <a:off x="2824200" y="3240000"/>
              <a:ext cx="1490760" cy="38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Hatóságok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tájékoztat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29787"/>
            <p:cNvSpPr/>
            <p:nvPr/>
          </p:nvSpPr>
          <p:spPr>
            <a:xfrm>
              <a:off x="1943280" y="3992400"/>
              <a:ext cx="1371600" cy="42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Tulajdonoso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29788"/>
            <p:cNvSpPr/>
            <p:nvPr/>
          </p:nvSpPr>
          <p:spPr>
            <a:xfrm>
              <a:off x="1943280" y="4521240"/>
              <a:ext cx="137160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Hitelező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29789"/>
            <p:cNvSpPr/>
            <p:nvPr/>
          </p:nvSpPr>
          <p:spPr>
            <a:xfrm>
              <a:off x="1943280" y="5048280"/>
              <a:ext cx="1371600" cy="428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otenciál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Befektető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29790"/>
            <p:cNvSpPr/>
            <p:nvPr/>
          </p:nvSpPr>
          <p:spPr>
            <a:xfrm>
              <a:off x="1943280" y="5576760"/>
              <a:ext cx="1371600" cy="42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Üzlet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Partnere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29791"/>
            <p:cNvSpPr/>
            <p:nvPr/>
          </p:nvSpPr>
          <p:spPr>
            <a:xfrm>
              <a:off x="3733920" y="3992400"/>
              <a:ext cx="1373040" cy="42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Központ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Ktg-veté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9792"/>
            <p:cNvSpPr/>
            <p:nvPr/>
          </p:nvSpPr>
          <p:spPr>
            <a:xfrm>
              <a:off x="3733920" y="4521240"/>
              <a:ext cx="1373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Nyudíj biz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29793"/>
            <p:cNvSpPr/>
            <p:nvPr/>
          </p:nvSpPr>
          <p:spPr>
            <a:xfrm>
              <a:off x="3733920" y="5048280"/>
              <a:ext cx="1373040" cy="428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Hely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Önkorm-o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29794"/>
            <p:cNvSpPr/>
            <p:nvPr/>
          </p:nvSpPr>
          <p:spPr>
            <a:xfrm>
              <a:off x="5975280" y="3240000"/>
              <a:ext cx="1487520" cy="38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Vállalkozá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Vezető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29795"/>
            <p:cNvSpPr/>
            <p:nvPr/>
          </p:nvSpPr>
          <p:spPr>
            <a:xfrm>
              <a:off x="5213520" y="3989520"/>
              <a:ext cx="1373040" cy="426960"/>
            </a:xfrm>
            <a:prstGeom prst="roundRect">
              <a:avLst>
                <a:gd name="adj" fmla="val 1365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Ellenőrzés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Elemzé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9796"/>
            <p:cNvSpPr/>
            <p:nvPr/>
          </p:nvSpPr>
          <p:spPr>
            <a:xfrm>
              <a:off x="6865920" y="3971880"/>
              <a:ext cx="1373040" cy="426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840" bIns="6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Döntése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Times New Roman"/>
                </a:rPr>
                <a:t>kialakít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2A63-2921-4799-AC3D-4442CA5EB2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énzügyi számvit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piac szereplőit tájékoztatja a vállalkozás gazdasági folyamatairó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gységes, általános normákat ír elő ami lehetővé teszi a kívülállók alapinformációhoz jutásá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zeket a normákat a Számviteli törvény tartalmazza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pénzügyi számvitel összetevő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számoló és leltá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önyvvezetés és bizonylati ren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önyvvizsgál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yilvánosságra hozat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7352-C556-4B7C-98EF-F10877B0FC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sz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560" y="806040"/>
            <a:ext cx="910908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izenhárom előadás - 112 (95) oldal – 19,5 óra – ~12 perc/old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élunk áttekintést adni a számvitelrő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endszerezé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galmak tisztába téte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azdasági események átlátás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em könyvelőket képzünk, de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izsg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izsga anyagát a jegyzet lényegében lefedi, de a magyarázó jellegű részek főként az előadásokon kapnak helye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ételsor lesz is, meg nem i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héz vizsga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AD79-FC0A-4093-AE1A-27DEA1FAC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lősz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80" y="1035000"/>
            <a:ext cx="913752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ámvitel, a számviteli nyelvezet kialakulás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4759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vállalkozások saját működésük átláthatóságának érdekében alakították ki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4759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z árutermelés, kereskedelem fejlődése elengedhetetlenné tette egy speciális nyelv(ezet) kialakulását, melyen keresztül megtakarítók és felhasználók, vállalatok és hitelezők megértik egymás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28B3-BB55-49AA-A3F6-9A07B4E71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Néhány fogalo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azdálkodá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lyan tevékenység amely a rendelkezésre álló erőforrások felhasználására irányu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Gazdálkodók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kik gazdálkodnak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Vállalkozó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Vagyonszerzés céljából termel vagy szolgálta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982B-AB0C-4132-B9F0-2A070E328E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ámvitel lénye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ámvitel a tájékoztatásnak, a publicitásnak egyfajta sajátos eszköz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lmerülő kérdések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ről tájékoztat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iket tájékoztat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lyen módszerrel tájékoztat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9F6A-1102-4E7A-97EE-BC3910259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Számvitel mint tájékoztatási eszkö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azdálkodók vagyoni viszonyairól, pü-i helyzetéről, jövedelem termelő képességéről nyújt tájékoztatás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endelkezésre álló erőforráso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redményessé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rosperitá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ájékoztatás címzettjei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Piaci szereplő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atóságo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llalati vezető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lkalmazotta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1D14-6F45-401E-892F-2BF8905CA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iaci szereplők információ igénye I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0220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ulajdonos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ekkora hozadék jut a befektetésr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ik és milyen arányban osztoznak a megtermelt jövedelmen (állam, munkavállalók, hitelezők, ők maguk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efektetésük mértéke milyen irányban és mértékben változot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593880"/>
            <a:ext cx="91440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itelező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épes-e a vállalkozás a kért hitelt visszafizetni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lyen a vállalkozás fizetőképessé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ilyen a vállalkozás jövedelemtermelő képessé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Hogyan alakul a tulajdonosok által bevitt tőke össze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6236-AB2C-436A-A054-2B7F22EA2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52520"/>
            <a:ext cx="45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3680" indent="-193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otenciális Befektet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Tulajdonosok és a Hitelezők információs igényével azonos, hiszen szabad tőkéjüket saját elhatározásuk alapján „véglegesen” (tulajdonos), vagy ideiglenesen (hitelező) vihetik be egy vállalkozás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352520"/>
            <a:ext cx="45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Üzleti Partner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llalkozás pü-i helyz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22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vállalkozás várható fejlőd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piacgazdaságban, árukapcsolatban az áru- és pénzmozgás időben elszak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120" y="4819680"/>
            <a:ext cx="84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felsorolt piaci szereplők információ igényét a számviteli rendszer intézményesen biztosítja, a Sz.tv. normáinak betartása mellet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iaci szereplők információ igénye II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AFB8-73A6-4F7E-8CB8-9245B2F38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1530360"/>
            <a:ext cx="459108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özponti költségveté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PO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lletéket illetve járulékokat kell befizetni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54080" y="1467000"/>
            <a:ext cx="4489560" cy="23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ársadalombiztosítá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gészségbiztosítási pénztá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yugdíjbiztosítási pénztá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76440" y="4152960"/>
            <a:ext cx="4191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Helyi önkormányz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elyi adókat kell megfizet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 hatóságok és azok tájékoztatás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7400">
            <a:off x="8224200" y="1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C9B6-0B39-4EF3-9253-9C961B0A0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47:09Z</dcterms:created>
  <dc:creator>Ormos Mihály</dc:creator>
  <dc:description/>
  <dc:language>en-US</dc:language>
  <cp:lastModifiedBy>ormos</cp:lastModifiedBy>
  <dcterms:modified xsi:type="dcterms:W3CDTF">2004-10-02T14:49:23Z</dcterms:modified>
  <cp:revision>64</cp:revision>
  <dc:subject/>
  <dc:title>Számvitel - MBA2004b</dc:title>
</cp:coreProperties>
</file>