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D496-706B-4A0B-BE52-41F4CB40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D0CC-5606-4487-A666-6C9E991D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4894-80AF-407A-BDC9-2F5FCFC2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3A58-EA78-4C5E-BA89-29CF3AF9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F8E-7B50-4A9B-A62D-3045DBD9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60C1-9F51-429F-9C58-3EEA7F95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2C60-78B0-40E1-9855-902526EC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F289-88DE-4C1C-8BBA-D36794F5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7C58-E7B5-437C-8318-01C0E5F2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7D91-5436-4B3C-B797-8015392D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EB9D-9618-47F4-AA42-A1543AC1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600E-64F7-49A8-89D3-43E3BD6F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87B4-1045-4B71-8AFE-BDDAB7A09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SZÁMVITELI ALAPOK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364500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CE-KIK Továbbképző Intézet Önkormányzati gazdálkodási sz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II. SZÁMVITELI SZABÁLYO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3. Helyi szabályzatok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I. Számviteli politika, ennek kereté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601"/>
              </a:spcBef>
              <a:buClr>
                <a:srgbClr val="ff990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9900"/>
                </a:solidFill>
                <a:latin typeface="Arial"/>
              </a:rPr>
              <a:t>Eszközök és források értékelési szabályz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601"/>
              </a:spcBef>
              <a:buClr>
                <a:srgbClr val="ff990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9900"/>
                </a:solidFill>
                <a:latin typeface="Arial"/>
              </a:rPr>
              <a:t>Eszközök és források leltározási és leltárkészítési szabályz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601"/>
              </a:spcBef>
              <a:buClr>
                <a:srgbClr val="ff990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9900"/>
                </a:solidFill>
                <a:latin typeface="Arial"/>
              </a:rPr>
              <a:t>Pénzkezelési szabályz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601"/>
              </a:spcBef>
              <a:buClr>
                <a:srgbClr val="ff990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9900"/>
                </a:solidFill>
                <a:latin typeface="Arial"/>
              </a:rPr>
              <a:t>Önköltségszámítási szabályz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hu-HU" sz="3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II.</a:t>
            </a:r>
            <a:r>
              <a:rPr b="0" lang="hu-H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zámlar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. A KÖLTSÉGVETÉSI BESZÁMOLÓ ÉS AZ AZT ALÁTÁMASZTÓ KÖNYVV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1773360"/>
            <a:ext cx="0" cy="3603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5280" y="2133720"/>
            <a:ext cx="52578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35280" y="2133720"/>
            <a:ext cx="0" cy="3585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2133720"/>
            <a:ext cx="0" cy="43164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1120" y="2576520"/>
            <a:ext cx="2780640" cy="8254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Éves költségveté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zámol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50320" y="2637000"/>
            <a:ext cx="3193560" cy="8254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éléves költségveté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zámol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168120" y="3645000"/>
            <a:ext cx="55879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ahoma"/>
              </a:rPr>
              <a:t>Könyvviteli mérl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ahoma"/>
              </a:rPr>
              <a:t>Pénzforgalmi jelen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ahoma"/>
              </a:rPr>
              <a:t>Maradvány- és eredménykimutatás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Tahoma"/>
              </a:rPr>
              <a:t>- pénzmaradvány-kimutat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Tahoma"/>
              </a:rPr>
              <a:t>- előirányzat-maradv. kimu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Tahoma"/>
              </a:rPr>
              <a:t>- eredménykimutat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ahoma"/>
              </a:rPr>
              <a:t>Kiegészítő mellékl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50160" y="3645000"/>
            <a:ext cx="411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énzforgalmi jelen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énzforgalom egyezteté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1484280"/>
            <a:ext cx="4248360" cy="368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KÖLTSÉGVETÉSI BESZÁMOL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KÖNYVVI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Fogal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Könyvvezetési form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gysz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kettő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államháztartásban alkalmazot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ális fajtája: 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ódosíto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teljesítés szemléletű kettő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könyvvit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. A KÖLTSÉGVETÉSI BESZÁMOLÓ ÉS AZ AZT ALÁTÁMASZTÓ KÖNYVV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. SZÁMVITELI ALAPELV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0920" y="2349360"/>
            <a:ext cx="52578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állalkozás folytatásának 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98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8000" y="2852640"/>
            <a:ext cx="576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2852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3068640"/>
            <a:ext cx="2592360" cy="231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ARTALMI ALAPELV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ljesség 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lódiság 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összemérés 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óvatosság 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48000" y="3068640"/>
            <a:ext cx="2808360" cy="355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IEGÉSZÍTŐ ALAPELV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gyedi értékelés 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uttó elszámolás 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ényegesség 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rtalom elsődlegessége a formával szem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öltség-haszon összevetésének 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35640" y="3068640"/>
            <a:ext cx="2808360" cy="162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FORMAI ALAPELV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lágosság 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lyamatosság el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övetkezetesség 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79640" y="1628640"/>
            <a:ext cx="52578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EGBÍZHATÓ ÉS VALÓS” KÉ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67640" y="2852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8000" y="2852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270828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B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Eszközök és források, a könyvviteli mérleg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zközö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a vagyon megjelenési formáj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16360" y="1915920"/>
            <a:ext cx="298584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Eszközö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411280" y="2708280"/>
            <a:ext cx="1440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3640" y="2637000"/>
            <a:ext cx="1368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3141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Befektetett eszközö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8000" y="3213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Forgóeszközö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08720" y="1197000"/>
            <a:ext cx="273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7280" y="3645000"/>
            <a:ext cx="273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ész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övetelés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Értékpapír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énzeszközö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ktív pénzügyi elszámol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933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mmateriális jav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43280" y="3933720"/>
            <a:ext cx="13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fektetett pénzügyi eszközö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27640" y="4005360"/>
            <a:ext cx="180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Üzemeltetésre, kezelésre, koncesszióba adott és vett eszközö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39337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árgyi eszközö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971640" y="3716280"/>
            <a:ext cx="107928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0000" y="371628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3716280"/>
            <a:ext cx="21564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5280" y="3716280"/>
            <a:ext cx="122400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Forráso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a vagyon ered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916360" y="1915920"/>
            <a:ext cx="298584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Forrá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411280" y="2708280"/>
            <a:ext cx="1440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2637000"/>
            <a:ext cx="1368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3141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ját forr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88000" y="3213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degen forr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8720" y="1197000"/>
            <a:ext cx="273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7280" y="386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Kötelezet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93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aját tő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393372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artalék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971640" y="3716280"/>
            <a:ext cx="107928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00360" y="3716280"/>
            <a:ext cx="5032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292640"/>
            <a:ext cx="237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uló tő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őkeváltoz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Értékelési tartalé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059280" y="4365720"/>
            <a:ext cx="21744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40360" y="4365720"/>
            <a:ext cx="360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84360" y="4724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öltségvetési tartalé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472428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állalkozási tartalé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516720" y="4221000"/>
            <a:ext cx="2174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10520" y="4221000"/>
            <a:ext cx="698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58160" y="4292640"/>
            <a:ext cx="28584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64000" y="443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sszú lejáratú kö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5084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övid lejáratú kö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9640" y="4869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szív pénzügyi elszámol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II.  KÖNYVVITELI MÉR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155600"/>
            <a:ext cx="952488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Arial"/>
              </a:rPr>
              <a:t>= Olyan okmány, am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cc66"/>
                </a:solidFill>
                <a:latin typeface="Arial"/>
              </a:rPr>
              <a:t>meghatározott időpontr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cc66"/>
                </a:solidFill>
                <a:latin typeface="Arial"/>
              </a:rPr>
              <a:t>összevontan mutat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cc66"/>
                </a:solidFill>
                <a:latin typeface="Arial"/>
              </a:rPr>
              <a:t>az eszközök és források (vagy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cc66"/>
                </a:solidFill>
                <a:latin typeface="Arial"/>
              </a:rPr>
              <a:t>értéké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látámasztó dokumentum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ltá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őkönyvi kivon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v. mérleg meghatározott szerkezetben készü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KÖNYVVITELI MÉRLE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ÁLTALÁNOS KÉ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8360" y="1628640"/>
          <a:ext cx="8678880" cy="4154760"/>
        </p:xfrm>
        <a:graphic>
          <a:graphicData uri="http://schemas.openxmlformats.org/drawingml/2006/table">
            <a:tbl>
              <a:tblPr/>
              <a:tblGrid>
                <a:gridCol w="2601720"/>
                <a:gridCol w="781200"/>
                <a:gridCol w="865080"/>
                <a:gridCol w="2735280"/>
                <a:gridCol w="792360"/>
                <a:gridCol w="903240"/>
              </a:tblGrid>
              <a:tr h="11354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ÖNYVVITELI MÉRL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X. dec. .3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 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ZKÖZÖ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ő-ző é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árgy-é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RÁS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ő-ző é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árgy-é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) BEFEKTET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ZKÖZÖ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) FORGÓESZKÖZÖ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) SAJÁT TŐ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) TARTALÉK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) KÖTELEZETTSÉG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ZKÖZÖK össze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RÁSOK össze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C.</a:t>
            </a:r>
            <a:br>
              <a:rPr sz="3600"/>
            </a:b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 A könyvvezetés technikai alapfogalma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A.</a:t>
            </a:r>
            <a:br>
              <a:rPr sz="3600"/>
            </a:b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 Számvitel, könyvvitel, számviteli alapelvek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. A KÖNYVVITEL TÁRGYA, A GAZDASÁGI ESEMÉNY. A GAZDASÁGI ESEMÉNY FELJEGYZÉSÉNEK RENDSZ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azdasági esemény foga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Alaptípus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3357720"/>
            <a:ext cx="7343640" cy="22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ol következik be értékváltoz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sak eszközök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sak források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ndkettőben: „+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ndkettőben: „-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ÖLTSÉGVETÉSI BESZÁMOLÓ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zintetikus elszám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ámlasoros feljegy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dősoros feljegyzés</a:t>
            </a:r>
            <a:br>
              <a:rPr sz="2800"/>
            </a:b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bev.,kiad., ei és telj.közgazdasági,funkcionális oszt.sz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9933"/>
                </a:solidFill>
                <a:latin typeface="Arial Narrow"/>
              </a:rPr>
              <a:t>(feladá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nalitikus elszámo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izonyl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5300640"/>
            <a:ext cx="295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5229360"/>
            <a:ext cx="609480" cy="914400"/>
          </a:xfrm>
          <a:prstGeom prst="upArrowCallout">
            <a:avLst>
              <a:gd name="adj1" fmla="val 25002"/>
              <a:gd name="adj2" fmla="val 25000"/>
              <a:gd name="adj3" fmla="val 25005"/>
              <a:gd name="adj4" fmla="val 6666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4724280"/>
            <a:ext cx="73080" cy="792360"/>
          </a:xfrm>
          <a:prstGeom prst="upArrow">
            <a:avLst>
              <a:gd name="adj1" fmla="val 50000"/>
              <a:gd name="adj2" fmla="val 2710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11280" y="4724280"/>
            <a:ext cx="4032360" cy="50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645336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35280" y="6093000"/>
            <a:ext cx="2521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6237360"/>
            <a:ext cx="2447640" cy="620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1916280"/>
            <a:ext cx="7704360" cy="194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0"/>
            <a:ext cx="77770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0"/>
            <a:ext cx="8136000" cy="981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5300640"/>
            <a:ext cx="718920" cy="792360"/>
          </a:xfrm>
          <a:prstGeom prst="upArrow">
            <a:avLst>
              <a:gd name="adj1" fmla="val 50000"/>
              <a:gd name="adj2" fmla="val 27554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16360" y="3933720"/>
            <a:ext cx="2879640" cy="7192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66768">
                  <a:alpha val="3137"/>
                </a:srgbClr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1125360"/>
            <a:ext cx="6624360" cy="64800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43280" y="1268280"/>
            <a:ext cx="4824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Főkönyvi kivon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I. A KÖNYVVEZETÉS ALAPJA: A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Arial"/>
              </a:rPr>
              <a:t> SZÁMVITELI BIZONY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KM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zdálkod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gy ve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üzleti kapcsolatb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évő állítja 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ndelkezik SZT alaki és tartalmi kelléke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ZT 166., 167. 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124000" y="2852640"/>
            <a:ext cx="172728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858920" y="2924280"/>
            <a:ext cx="865080" cy="129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598920" y="3536640"/>
            <a:ext cx="360360" cy="2303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9760 h 2303640"/>
              <a:gd name="textAreaBottom" fmla="*/ 224388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II. A KÖNYVVEZETÉS MÓDJA, ESZKÖZ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önyvviteli száml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galma, általános ké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ípus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őkönyvi számlák rendszere, a számlatükö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önyvelési té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ámlasoros elszám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ősoros elszám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itikus és szintetikus elszám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őkönyvi kivon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1. Könyvviteli számla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szerűsített ké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2707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tozi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Köve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19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3213000"/>
            <a:ext cx="777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3213000"/>
            <a:ext cx="0" cy="26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1844640"/>
            <a:ext cx="273528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ámla azonosít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z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megneve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2. A könyvviteli számlák típus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állományi (mérleg: eszköz, forrás) száml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őirányzati száml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őirányzat-teljesítési (forgalmi) száml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kai száml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979640" y="105264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ZKÖZ SZÁM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163044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1270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96360" y="1270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163044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8464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yitó egyen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51640" y="18464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ökke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03280" y="2494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öveked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51640" y="24224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áró egyen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58920" y="1917720"/>
            <a:ext cx="73080" cy="936720"/>
          </a:xfrm>
          <a:custGeom>
            <a:avLst/>
            <a:gdLst>
              <a:gd name="textAreaLeft" fmla="*/ 46800 w 73080"/>
              <a:gd name="textAreaRight" fmla="*/ 73440 w 730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060640"/>
            <a:ext cx="11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 forg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812000" y="1917720"/>
            <a:ext cx="144720" cy="863640"/>
          </a:xfrm>
          <a:custGeom>
            <a:avLst/>
            <a:gdLst>
              <a:gd name="textAreaLeft" fmla="*/ 0 w 144720"/>
              <a:gd name="textAreaRight" fmla="*/ 52200 w 144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56720" y="2060640"/>
            <a:ext cx="11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forg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429264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. e. = T forgalom – K forgal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979640" y="105264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RÁS SZÁM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163044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1270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96360" y="1270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63044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03280" y="18464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ökke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51640" y="18464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yitó egyen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03280" y="2494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áró egyen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51640" y="24224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öveked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12000" y="1917720"/>
            <a:ext cx="144720" cy="863640"/>
          </a:xfrm>
          <a:custGeom>
            <a:avLst/>
            <a:gdLst>
              <a:gd name="textAreaLeft" fmla="*/ 0 w 144720"/>
              <a:gd name="textAreaRight" fmla="*/ 52200 w 144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56720" y="2060640"/>
            <a:ext cx="11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forg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00000" y="429264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. e. = K forgalom – T forgal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060640"/>
            <a:ext cx="11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 forg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1917720"/>
            <a:ext cx="73080" cy="936720"/>
          </a:xfrm>
          <a:custGeom>
            <a:avLst/>
            <a:gdLst>
              <a:gd name="textAreaLeft" fmla="*/ 46800 w 73080"/>
              <a:gd name="textAreaRight" fmla="*/ 73440 w 730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9640" y="1844640"/>
            <a:ext cx="3382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48360" y="1844640"/>
            <a:ext cx="338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1844640"/>
            <a:ext cx="144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48360" y="1844640"/>
            <a:ext cx="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1484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64000" y="1484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48360" y="1484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172360" y="1484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4581360"/>
            <a:ext cx="3382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95640" y="4581360"/>
            <a:ext cx="1440" cy="172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4221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64000" y="4221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48360" y="4581360"/>
            <a:ext cx="338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48360" y="4581360"/>
            <a:ext cx="0" cy="172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48360" y="4221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172360" y="4221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42920" y="14130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adási előirány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060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2057400"/>
            <a:ext cx="148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redeti 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58920" y="2708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56000" y="2708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52880" y="2057400"/>
            <a:ext cx="19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redeti 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08720" y="1989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0360" y="2708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380360" y="2781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80000" y="14130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vételi előirány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6000" y="4724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00360" y="479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00360" y="5516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479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80360" y="4869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0360" y="5516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58920" y="414972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iadási előir.  telj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96000" y="414972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vételi előir. tel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.3. A főkönyvi számlák rendszere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 SZÁMLATÜKÖ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68360" y="1284120"/>
          <a:ext cx="8229600" cy="5573880"/>
        </p:xfrm>
        <a:graphic>
          <a:graphicData uri="http://schemas.openxmlformats.org/drawingml/2006/table">
            <a:tbl>
              <a:tblPr/>
              <a:tblGrid>
                <a:gridCol w="801720"/>
                <a:gridCol w="1728720"/>
                <a:gridCol w="936720"/>
                <a:gridCol w="887400"/>
                <a:gridCol w="787320"/>
                <a:gridCol w="701640"/>
                <a:gridCol w="792360"/>
                <a:gridCol w="647640"/>
                <a:gridCol w="946080"/>
              </a:tblGrid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zla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zá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zámlaoszt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gnevezé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Állományi számlá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lőir. szlá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lőir. Telj. szlá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chn. szlá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szkö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r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ia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ia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fektetett eszközö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észl.,köv.,é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énzügyi els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rás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Kiad.ei.és telj.(Közg.oszt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Közvetett kia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Tevékenység kiad.ei. és telj. (Funkc.oszt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Bevételek (Közg.ésFunkc.oszt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. SZÁMVI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Jelentősé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Fogal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ZÁMV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zdasági műveletek előre meghatározott rendszerben való szerveze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megfigyelé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mérés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folyamatos feljegyzé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ellenőrzése 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elemzé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Könyvelési tétel szerkeszt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50920" y="1413000"/>
          <a:ext cx="8713800" cy="5032080"/>
        </p:xfrm>
        <a:graphic>
          <a:graphicData uri="http://schemas.openxmlformats.org/drawingml/2006/table">
            <a:tbl>
              <a:tblPr/>
              <a:tblGrid>
                <a:gridCol w="1433520"/>
                <a:gridCol w="1538280"/>
                <a:gridCol w="1454040"/>
                <a:gridCol w="1522440"/>
                <a:gridCol w="1501920"/>
                <a:gridCol w="1263600"/>
              </a:tblGrid>
              <a:tr h="126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rszá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 változot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gya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lyik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ámlák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ly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alára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Össze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3. Számlasoros elszámo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galma, lény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zköze: a főkönyvi szám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4. Idősoros elszámo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4076640"/>
            <a:ext cx="82296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galma, lény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zköze: a könyvviteli napl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L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299120" y="-2930036040"/>
          <a:ext cx="545760" cy="547560"/>
        </p:xfrm>
        <a:graphic>
          <a:graphicData uri="http://schemas.openxmlformats.org/drawingml/2006/table">
            <a:tbl>
              <a:tblPr/>
              <a:tblGrid>
                <a:gridCol w="54576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rszá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4299120" y="2936894040"/>
            <a:ext cx="5457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44880" y="-2930004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44880" y="-2930004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299120" y="3301920"/>
            <a:ext cx="5457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44880" y="3263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44880" y="3263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299120" y="-238937760"/>
          <a:ext cx="545760" cy="547560"/>
        </p:xfrm>
        <a:graphic>
          <a:graphicData uri="http://schemas.openxmlformats.org/drawingml/2006/table">
            <a:tbl>
              <a:tblPr/>
              <a:tblGrid>
                <a:gridCol w="54576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rszá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4299120" y="245795760"/>
            <a:ext cx="5457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44880" y="-238906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44880" y="-238906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04920" y="1523880"/>
          <a:ext cx="8839080" cy="452592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2819160"/>
                <a:gridCol w="1752840"/>
                <a:gridCol w="1143000"/>
                <a:gridCol w="990360"/>
                <a:gridCol w="1143000"/>
              </a:tblGrid>
              <a:tr h="447480">
                <a:tc row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rszá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á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zdasági esemé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gnevezé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őkönyvi szám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Össz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4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39640" y="1844640"/>
            <a:ext cx="3382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48360" y="1844640"/>
            <a:ext cx="338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95640" y="1844640"/>
            <a:ext cx="144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48360" y="1844640"/>
            <a:ext cx="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9640" y="1484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1484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148360" y="1484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172360" y="1484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144792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öltségvetési elsz.sz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72200" y="13716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nztá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1916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   40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9640" y="234936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   8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20000" y="18446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   8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48360" y="18446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   20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280" y="26028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189000"/>
            <a:ext cx="83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élda a számlasoros és idősoros elszámolásr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 házipénztárból 80.000 Ft-ot befizettek a bankszámlá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L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99120" y="2936894040"/>
            <a:ext cx="5457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44880" y="-2930004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44880" y="-2930004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99120" y="3301920"/>
            <a:ext cx="5457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44880" y="3263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844880" y="3263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99120" y="245795760"/>
            <a:ext cx="5457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44880" y="-238906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44880" y="-238906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28600" y="1600200"/>
          <a:ext cx="8839080" cy="488484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2819160"/>
                <a:gridCol w="1752840"/>
                <a:gridCol w="1143000"/>
                <a:gridCol w="990360"/>
                <a:gridCol w="1143000"/>
              </a:tblGrid>
              <a:tr h="407160">
                <a:tc row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rszá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á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zdasági esemé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gnevezé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őkönyvi szám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Össz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4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észpénz befizetése a bankszámlára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öltségvetési elsz. szám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énztár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0 000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5. Analitikus és szintetikus elszámolás, ezek kapcsol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9640" y="1628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9640" y="148428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yam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2280600"/>
            <a:ext cx="17272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zdasági esemé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27280" y="2424960"/>
            <a:ext cx="17272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zony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03640" y="2417040"/>
            <a:ext cx="17272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08720" y="2417040"/>
            <a:ext cx="17272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zinte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79640" y="2637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732720" y="263700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56000" y="2637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2000" y="328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400536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378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őszakonké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9280" y="4945680"/>
            <a:ext cx="17272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zdasági esemé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5090400"/>
            <a:ext cx="17269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zony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932360" y="5082480"/>
            <a:ext cx="17272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237440" y="5082480"/>
            <a:ext cx="17272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zinte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08000" y="530208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61080" y="53020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84720" y="53020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96000" y="5516640"/>
            <a:ext cx="2521080" cy="936720"/>
          </a:xfrm>
          <a:custGeom>
            <a:avLst/>
            <a:gdLst>
              <a:gd name="textAreaLeft" fmla="*/ 441000 w 2521080"/>
              <a:gd name="textAreaRight" fmla="*/ 1827720 w 252108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443640" y="64911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lad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 könyvelés munkálat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" y="1484280"/>
            <a:ext cx="78487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főkönyvi számlák megnyitása, a jóváhagyott eredeti költségvetési előirányzatok feljegyz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gazdasági események év közbeni rögzíté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itikák veze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őkönyvi számlákon való rögzítés (szintetikus könyvelés számlasorosan és idősoros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énzforgalmi eseményeket folyamato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gyéb eseményeket legkésőbb negyedévente (az analitikus nyilvántartásból vett feladás alapjá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őszakonkénti egyeztetés, zárás (negyedévi, félévi, é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éves zárás: egyeztetések, állományrendezések, IV. negyedévi könyvelések, számlák technikai zárásai, tartalékok megállapítása, 12 hasábos főkönyvi kivonat összeállítása, a beszámoló elkészíté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SZÁMVITELI SZABÁLYO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Számviteli törvé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Kormányrendel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Helyi szabályzato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SZÁMVITELI SZABÁLYO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Számviteli törvé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él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FORMÁCI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 piac szereplőirő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GBÍZHATÓ ÉS VALÓS KÉP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Z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0. évi C. t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zdálkod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422100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005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állalkoz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9280" y="4581360"/>
            <a:ext cx="26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llamháztartás szervezet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000" y="4149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724280"/>
            <a:ext cx="26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yéb szervez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3789360"/>
            <a:ext cx="540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500720" y="3573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3789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3789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9640" y="3789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94836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4104360" y="1880280"/>
            <a:ext cx="432000" cy="7561440"/>
          </a:xfrm>
          <a:custGeom>
            <a:avLst/>
            <a:gdLst>
              <a:gd name="textAreaLeft" fmla="*/ 276120 w 432000"/>
              <a:gd name="textAreaRight" fmla="*/ 432360 w 432000"/>
              <a:gd name="textAreaTop" fmla="*/ 196920 h 7561440"/>
              <a:gd name="textAreaBottom" fmla="*/ 7364520 h 756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5805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+ általuk v. természetes személy által alapított eü., szoc., okt. intézmé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I. SZÁMVITELI SZABÁLYOZ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2. Kormányrendelet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l. államháztartás szervezeteire a </a:t>
            </a:r>
            <a:r>
              <a:rPr b="0" lang="hu-HU" sz="2800" spc="-1" strike="noStrike">
                <a:solidFill>
                  <a:srgbClr val="cc0000"/>
                </a:solidFill>
                <a:latin typeface="Arial"/>
              </a:rPr>
              <a:t>249/2000. (XII.24.) Korm.r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tály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9900"/>
                </a:solidFill>
                <a:latin typeface="Arial"/>
              </a:rPr>
              <a:t>központi költségvetési sze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9900"/>
                </a:solidFill>
                <a:latin typeface="Arial"/>
              </a:rPr>
              <a:t>helyi önkormányzati költségvetési sze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9900"/>
                </a:solidFill>
                <a:latin typeface="Arial"/>
              </a:rPr>
              <a:t>tb. alap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9900"/>
                </a:solidFill>
                <a:latin typeface="Arial"/>
              </a:rPr>
              <a:t>tb. költségvetési sze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9900"/>
                </a:solidFill>
                <a:latin typeface="Arial"/>
              </a:rPr>
              <a:t>Helyi és országos kissebbségi önk.-i ktgvetési szer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9900"/>
                </a:solidFill>
                <a:latin typeface="Arial"/>
              </a:rPr>
              <a:t>köztestületi költségvetési szer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9900"/>
                </a:solidFill>
                <a:latin typeface="Arial"/>
              </a:rPr>
              <a:t>elkülönített állami pénza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9900"/>
                </a:solidFill>
                <a:latin typeface="Arial"/>
              </a:rPr>
              <a:t>vagyonkezelő költségvetési szer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9. K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10. MTA vagyonkezelő szervez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11. állami tulajdonú vállalkozói vagyon értékesítését kezelő vagyonkezelő szerve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12. megyei területfejlesztési regionális és térségi fejlesztési tanácsok+ munkaszervezete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13. helyi önkormányzatok társulás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szabályozott számviteli területek példáu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zámolási kötelezetts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önyvvezetési kötelezetts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ámviteli alapelv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ámviteli poli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eszámolók tarta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rtékelési mód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önyvvizsgá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ámlakeret, számlar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13:54:59Z</dcterms:created>
  <dc:creator>harmath</dc:creator>
  <dc:description/>
  <dc:language>en-US</dc:language>
  <cp:lastModifiedBy>ereni</cp:lastModifiedBy>
  <dcterms:modified xsi:type="dcterms:W3CDTF">2006-11-14T19:33:11Z</dcterms:modified>
  <cp:revision>28</cp:revision>
  <dc:subject/>
  <dc:title>I. A SZÁMVITEL SZABÁLYOZÁSA</dc:title>
</cp:coreProperties>
</file>